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1C147-AC87-4C58-ADAB-96A9354C8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A1A3-9BDF-4427-9CCC-79263C2E4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CBEF-2062-47F3-B7A6-4C6A55597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0A1B-4CD6-4F89-9965-4AD6297F9E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D09B-E15B-430F-9D90-9C9EA5D0BC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787C-5B50-4F32-B1C8-EFEBCFED3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E273-649E-4E23-8C8F-B6D4315BE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2B8BD-D4B0-42D0-825B-C4012B328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C9A0-08C5-4DB2-858B-F1A7AAB24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21B1-255A-449B-A792-22C1219BB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4A2F-31AB-4D4F-8329-B06588704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AAF2-75A8-4992-90F7-98B3A0B3A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B00A-4272-4933-A3E6-CD3B0DEDCA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BE7D-3F97-42D7-A921-D1EC12DDA6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2666520"/>
            <a:ext cx="830556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oncrete Pathwa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rriculum Views 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hematical proc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sters are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th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rocess that </a:t>
            </a: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s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flect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e of thinking w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been do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oups take a minute to share together, then share their thinking with the whole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CF92-FB25-4E03-80D4-CB6B0B5621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F790-C62E-46C9-B163-E743B65A7D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AF21-C349-4383-9ED8-827979210F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9999-459D-406E-86DE-9F72E37C17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80880" y="6858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Personal Reflection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 on your learning today, and record your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interesting  idea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questions, things to follow up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6099120" y="28843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7543440" y="3200040"/>
            <a:ext cx="83808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ACCD-4299-45D2-9785-CC5F507FBF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351E-F64E-4951-87B0-F92542708B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60948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 Feedback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ease share your personal 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completing an exit c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wo things I learned today about algebraic reaso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am wondering abo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bd06662_" descr=""/>
          <p:cNvPicPr/>
          <p:nvPr/>
        </p:nvPicPr>
        <p:blipFill>
          <a:blip r:embed="rId2"/>
          <a:stretch/>
        </p:blipFill>
        <p:spPr>
          <a:xfrm>
            <a:off x="7045200" y="990720"/>
            <a:ext cx="2098800" cy="185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eedback and Observations from yester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C889-68A6-4221-877E-A7B6FB647B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4F74-749A-4B5B-929E-CE5953A16E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nd explore concrete models of 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 connections between concrete patterns and algebraic thinking (generalizations, justification, conje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reciate the power of multiple representations to deepen and support algebraic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 algebraic thinking to mathematical process expectat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04DD-B488-4395-802E-F1BF561D13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5177-9A57-4D28-9803-E7FD15C4BB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20B5-6EB0-4C79-8CA5-11C90F76BA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A523-8FE9-46B0-BA73-2875171961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880" y="10666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uild a 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odel of any fun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underlying pattern evi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model facilitate general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y and Str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 other groups’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n you guess the fun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Reflecting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notice about the model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questions do you have about concrete models of function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 your observations and questions with your group or a 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common questions on chart paper for future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499B-F12A-444F-8CFE-90EFADD042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D267-A286-4B7E-9A71-2680DF16E3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arning Self-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mfortable are you with concrete represent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od to g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I feel very comfortable, and could expla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to someon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ed with cau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m getting it,  but I ne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m feeling confused and would like mo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expla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C14C-088F-4418-8973-FA5623E8F7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98DC-9027-4F83-8717-E9E816FED8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bd07304_" descr=""/>
          <p:cNvPicPr/>
          <p:nvPr/>
        </p:nvPicPr>
        <p:blipFill>
          <a:blip r:embed="rId1"/>
          <a:stretch/>
        </p:blipFill>
        <p:spPr>
          <a:xfrm>
            <a:off x="7162920" y="68580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Secret Pattern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a partner who showed the same colour as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ill be given a card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cret Pattern Building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quare tiles to build the pattern with your part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 algn="r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you are done, turn your card upside down, walk around and try to guess other people’s patterns!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6B96-0F2E-4D26-8CD0-A989CF808F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EC1E-CF56-434B-85BB-FF894ABA47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2351160"/>
            <a:ext cx="3429000" cy="1077840"/>
          </a:xfrm>
          <a:prstGeom prst="cloudCallout">
            <a:avLst>
              <a:gd name="adj1" fmla="val -23379"/>
              <a:gd name="adj2" fmla="val 42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2590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Hint:  Use stickies to  label th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88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Representing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nd the other pair with the same secret pattern to make a group of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k through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Representing Ac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e pair choos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Grap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ption, one choos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Linking C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you work and ideas on chart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DFE2-46DC-4942-9205-D9099F7DCE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CD7A-73A7-4713-8BA0-F92CA33626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 Exploring Conjectures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e and discuss the work of the oth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about  what you heard about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conj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t the Plenary sess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is work provide an opportunity for conje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sort of conjectures might students mak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w might they justify their conje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3ED7-ED81-4173-8332-F06DF2DFD0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188E-5C30-4AED-A56D-3EE5C29C33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09T17:05:57Z</dcterms:modified>
  <cp:revision>29</cp:revision>
  <dc:subject/>
  <dc:title>&lt;Title&gt;</dc:title>
</cp:coreProperties>
</file>